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2748-303D-4140-9344-6B437480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6CD3-8726-476C-8E6B-CDCA1678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0C2-786E-43BB-9A65-00E9499C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543-759D-4C24-9146-F113AC50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16F-21CF-40C1-A41C-1BCC8A32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996-CB70-4ADB-9019-171FC1D6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78E-DC55-44C4-BB23-2516E27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C80-30B1-4486-8CD2-9E7950AD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DE8-479A-4BEA-8F28-DC2A72F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548-52B2-4B7E-A820-D704DB90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76D-CCA0-499B-82A7-2B97E873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6C0-C512-4A47-9995-1875419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106-D2AF-4BE8-ABC9-0679BB4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3D5-36E2-47E4-91C2-625F02A1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FB8C-AACC-442C-BC49-1C81272F0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816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Yo voy a una escuela de ninas que se llama tywls of astoria.  Yo tengo dos hermanas. Mis herm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n altas. Yo soy Simpatica y divertida. Yo estoy feliz. Yo amo la musica. Espero  qué nosotros somos ami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36360" y="5430960"/>
            <a:ext cx="64008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733920"/>
            <a:ext cx="38862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gracias mi linda, dulce amiga. Yo estoy en mi ca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 Escribiendo mi poema con mi Pequeña hermanas y escuchando músic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enemos qué escribir una poema para escuela.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4038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enas tardes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. ¿Cómo están y que hacen y en dónde estás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449568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qué bien. Yo estoy comendo y estoy aburrida . Y está bien.  Nosotros estamos felices de  nuest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do. ¿Tú tienes una hermana y Sus papas están en la casa?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029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0292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y qué bueno. Ustedes son muy inteligente.                                     Man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63868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638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Tus hermanas son enérgic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también eres inteligente y si son enérgic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mos amigas simpát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adió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Photo on 2011-10-21 at 13.53 #2.jpg"/>
          <p:cNvPicPr/>
          <p:nvPr/>
        </p:nvPicPr>
        <p:blipFill>
          <a:blip r:embed="rId12"/>
          <a:stretch/>
        </p:blipFill>
        <p:spPr>
          <a:xfrm>
            <a:off x="2041560" y="62485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2666880" y="6248520"/>
            <a:ext cx="4114800" cy="4572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u. Hasta lueg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8:48Z</dcterms:modified>
  <cp:revision>118</cp:revision>
  <dc:subject/>
  <dc:title>Profile</dc:title>
</cp:coreProperties>
</file>